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88C-BF43-4CA4-B773-A00FA41B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12B-1F73-4C0A-916E-B3FB30B5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CC6-37FF-4DFB-85B2-4FCC862E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050-70DC-4FE8-8A40-625B91AA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BBE-C48F-4352-924E-B0CA9E45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9FF-53BF-4758-B29C-8FB905B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17E-F009-4E3F-AE8B-751ACC33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74B-4C83-4C42-BEAA-8009D9AB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572-5B24-4E8B-8903-E5671C4E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A09-0449-4CDC-9E9F-198FE74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73F-D1A3-4CA7-9849-81A60C0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56C-50EA-481E-8E8F-3416CE3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558D-12C8-46A1-9769-80EB2ECD8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 il 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7 de octu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son los deportes populares en el mundo hisp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Quién es tu deportista  favorito/a?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08200"/>
            <a:ext cx="876312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Los deportes en el mundo hispa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2-23,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(1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14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343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8991720" cy="680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béisbol es muy popular en México, Honduras, Nicaragua, Panamá, Venezuela, partes de Colombia y el Japón. También es el deporte MAS popular de Cuba, Puerto Rico y La Republica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s estos países tienen algo en común.  En algún momento de su historia hubo una base naval americana o presencia de la militar amer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estos soldados tenían tiempo libre, ellos jugaban el béisbol y los habitantes de los países los miraban jugar. Fue así que aprendieron el deporte y en algunos países, como en el caribe y Panamá, el béisbol se convirtió en el deporte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884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La geografía y el béis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4:49:12Z</dcterms:created>
  <dc:creator>Helen Zumaeta</dc:creator>
  <dc:description/>
  <dc:language>en-US</dc:language>
  <cp:lastModifiedBy>Helen Zumaeta</cp:lastModifiedBy>
  <dcterms:modified xsi:type="dcterms:W3CDTF">2012-10-17T15:15:19Z</dcterms:modified>
  <cp:revision>10</cp:revision>
  <dc:subject/>
  <dc:title>Me llamo ___________ Clase 7IM La fecha es el 4 de febrero del 2011</dc:title>
</cp:coreProperties>
</file>